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59B8-4CA5-4552-8579-9D5FF9C0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A97A-F963-4DE0-990B-B4263164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9E3D-5604-4E29-A10D-81D753AF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A7D5-7093-40DA-AC22-B20D84EF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C1D0-041C-4DD1-BA49-44C913A8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C678-4570-44DC-A9BE-E68AAE02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9F53-F0CD-4371-A741-7EC574C2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1547-6F3F-4F8A-95FB-A0621CCE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AFCB-CFD6-4267-A7B1-B6C1F61A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AE40-E054-4060-9A27-77BABC23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60D-7EBD-4E71-9A7D-537E0E93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659C-E1D3-4E03-A1D0-57C337A8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C1AD-1BB3-48F4-8DA2-2157A20B0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Language of Newspa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m of today’s lesson: to look at the language of newspapers, to consider emo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16720" y="4076640"/>
            <a:ext cx="2376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motive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spapers want to sell as many copies of their papers as possible. They try to lure their readers into their pages with juicy gossip, prizes or powerful and emotive s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OTIVE LANGUAGE is language aimed at appealing directly to your emo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20000" y="5157720"/>
            <a:ext cx="158436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Your turn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k of and write down an emotive word for the following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ing someone’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eding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eling very un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eling very cross about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group of bored teenagers vandal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Your Tas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o write a newspaper article about a storm in Portishead that has damaged property and caused injuries/ a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You need to come up with the details and language to make this an emotive s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headlines can you come up with for the follow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417080" cy="39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698508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9640" y="1989000"/>
            <a:ext cx="835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Now come up with your plan for the artic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35280" y="765000"/>
            <a:ext cx="237636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32000" y="2205000"/>
            <a:ext cx="2232000" cy="2233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48000" y="256536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is your article ab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620640"/>
            <a:ext cx="288144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7650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ad paragraph – who, what, when, where, h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3429000"/>
            <a:ext cx="288108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3429000"/>
            <a:ext cx="24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has happened?  Describe the storm –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erson…  What vocabulary might hel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4292640"/>
            <a:ext cx="20876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436572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o was hurt?  Noun phrases – how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6360" y="5877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5445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2349360"/>
            <a:ext cx="165744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24922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 reports of da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79640" y="9079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ture outcomes – what nex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191628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378936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003640" y="1773000"/>
            <a:ext cx="57636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9640" y="3860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916360" y="378936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700360" y="2997360"/>
            <a:ext cx="503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3203280" y="1844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522936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826560" y="4869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826920" y="350028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84360" y="2276640"/>
            <a:ext cx="287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4:05:18Z</dcterms:created>
  <dc:creator>Sophie Williams</dc:creator>
  <dc:description/>
  <dc:language>en-US</dc:language>
  <cp:lastModifiedBy>Sophie Williams</cp:lastModifiedBy>
  <dcterms:modified xsi:type="dcterms:W3CDTF">2007-01-26T15:16:08Z</dcterms:modified>
  <cp:revision>2</cp:revision>
  <dc:subject/>
  <dc:title>The Language of Newspapers</dc:title>
</cp:coreProperties>
</file>